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FC33-94C5-4A3A-B7F7-D287EC8434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73B6-FEC8-4C03-B117-0BAA36591A8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569B-D7A4-45A1-A5E5-049EFB012F5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81A7-6E32-4155-84D4-BB9845F2241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B820-B9AC-4495-906C-C724932C0D3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0B2B-5998-4C1E-8353-4EE1E103409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5933-A44D-4BB7-9C0F-D49E42D943E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FD5D-F06A-4434-BC1C-2070918F7C2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10A1-C214-4C34-B4D8-2DBC98947A4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7279-C2A8-4FDB-81C1-52849CE5468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D624D-E23D-4C10-8861-1D951955B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92145-661F-4287-AB56-9C322126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1B5E0-DC2E-4EA8-88AE-15EF0118F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CB25D-B10F-429B-A5C6-A098B2584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801F9-3BE5-4B2C-A839-6855ED3CE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31B4F-D853-416F-8A8F-D1A559D72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E5E6B-0E0D-4386-82A9-C0AA36766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78722-52E9-4C14-AD06-D10584B64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55976-1F7E-4725-9AC7-507A8C5B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C95F-C5EB-48BB-A81E-C052FF3BF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E4F8-E459-407A-866F-0C326311C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B67E8-78EB-486C-99A1-4A0CAC236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7EC3-EC1E-4DE2-9BB6-E9DA62F5613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12-09T18:56:48Z</dcterms:modified>
  <cp:revision>26</cp:revision>
  <dc:subject/>
  <dc:title>Countries</dc:title>
</cp:coreProperties>
</file>